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2F4BC-7180-4A19-A8EE-74C659B7B7C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lesson should take about 2 hours: Quiz – 10 mins; Reading 1 – 20 mins; Jigsaw reading – 20 mins; Speaking – 20 mins; Writing – 40 m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6E38B-AB66-40EE-94B7-854C8308754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discuss these questions in small grou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B19B5-B789-4288-A9E3-32396DEE741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ey to quiz: 1/b  2/c  3/a  4/a  5/c  6/c  7/a  8/b     Learners can access this on-line, the teacher can print it out beforehand, or learners can read it from the scr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1AB6C-69C6-4D39-ABF8-12BDD8C423C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access these on-line, or the teacher can print them out beforeh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8461A-1B42-40B0-AF46-635C9047141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teacher can monitor for errors and write these on the board for post-task error corr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C0988-78B4-411F-9788-8FFBB30A06C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stick their completed letters to the board, then read each other’s, pointing out where they are successful and where they could be improv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BA2D9-A73B-418F-836F-F8B16027CB2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2C7A-0282-422E-A29F-F38E0299F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00BA-0B0A-485C-BC12-D2C56EA66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7A70-57E6-4065-B211-F1AAE613A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F309-1EDA-47CF-BEFC-DA9D7CC33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0968-7D73-4E16-A946-495D69D4D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A6D1-F411-4097-86FB-A383DD4B3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F34A-9291-47F6-BE0E-29B881354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195E-4A4E-49D2-B843-A3670746D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57A6-0D85-4F9A-BC15-3ECF893B7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EC3E-23CD-4F02-98C0-28F3A9B82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1FE9-FF0B-402A-B38E-9F5A9219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AAEF-49B2-47B5-ABC5-F63D1BC5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A1373-CD6A-4892-85C9-1E3ADBD7840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The_Spirit_of_Saro-Wiwa_fights_again_in_the_Niger_Delta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58920" y="2130120"/>
            <a:ext cx="5398920" cy="252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0" spc="-1" strike="noStrike">
                <a:solidFill>
                  <a:srgbClr val="000000"/>
                </a:solidFill>
                <a:latin typeface="Calibri"/>
              </a:rPr>
              <a:t>Oil</a:t>
            </a: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240" y="5084640"/>
            <a:ext cx="701676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Intermediate   New Internationalist  Easier English ready les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2667240" cy="3771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3649680" y="333360"/>
            <a:ext cx="517536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lesso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50560" y="1916280"/>
            <a:ext cx="873756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Reading: articles about oil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b050"/>
                </a:solidFill>
                <a:latin typeface="Calibri"/>
              </a:rPr>
              <a:t>Speaking: about problems and solutions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7030a0"/>
                </a:solidFill>
                <a:latin typeface="Calibri"/>
              </a:rPr>
              <a:t>Writing: a formal persuasive letter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5940360" y="436572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2"/>
          <a:stretch/>
        </p:blipFill>
        <p:spPr>
          <a:xfrm>
            <a:off x="3780000" y="4255920"/>
            <a:ext cx="1695240" cy="2395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"/>
          <p:cNvPicPr/>
          <p:nvPr/>
        </p:nvPicPr>
        <p:blipFill>
          <a:blip r:embed="rId3"/>
          <a:stretch/>
        </p:blipFill>
        <p:spPr>
          <a:xfrm>
            <a:off x="79200" y="4300560"/>
            <a:ext cx="3340440" cy="2224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"/>
          <p:cNvPicPr/>
          <p:nvPr/>
        </p:nvPicPr>
        <p:blipFill>
          <a:blip r:embed="rId4"/>
          <a:stretch/>
        </p:blipFill>
        <p:spPr>
          <a:xfrm>
            <a:off x="6804000" y="115920"/>
            <a:ext cx="2287440" cy="1523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"/>
          <p:cNvPicPr/>
          <p:nvPr/>
        </p:nvPicPr>
        <p:blipFill>
          <a:blip r:embed="rId5"/>
          <a:stretch/>
        </p:blipFill>
        <p:spPr>
          <a:xfrm>
            <a:off x="250920" y="115920"/>
            <a:ext cx="216036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Quiz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50560" y="1125000"/>
            <a:ext cx="8785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Where is Ogoni? (one of the most polluted places in the world)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70c0"/>
                </a:solidFill>
                <a:latin typeface="Calibri"/>
              </a:rPr>
              <a:t>Australia      b) Nigeria    c) German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2. Why are people protesting in Ogoni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70c0"/>
                </a:solidFill>
                <a:latin typeface="Calibri"/>
              </a:rPr>
              <a:t>They want more money      b) They want more oil   c) They want less pollu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3. How long have they had oil pollution in Ogoni?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70c0"/>
                </a:solidFill>
                <a:latin typeface="Calibri"/>
              </a:rPr>
              <a:t>50 years   b) 10 years   c) 5 yea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4. How much money did Shell pay the Ogoni community in 1970 when the pollution was very bad?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a) </a:t>
            </a:r>
            <a:r>
              <a:rPr b="1" lang="en-GB" sz="3000" spc="-1" strike="noStrike">
                <a:solidFill>
                  <a:srgbClr val="0070c0"/>
                </a:solidFill>
                <a:latin typeface="Calibri"/>
              </a:rPr>
              <a:t>£168    b) £1680    c) £16,80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50920" y="189000"/>
            <a:ext cx="86421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5. Who was Ken Saro-Wiwa?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70c0"/>
                </a:solidFill>
                <a:latin typeface="Calibri"/>
              </a:rPr>
              <a:t>a Shell worker who suffered from pollu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70c0"/>
                </a:solidFill>
                <a:latin typeface="Calibri"/>
              </a:rPr>
              <a:t>a Nigerian murderer who didn’t like Shel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70c0"/>
                </a:solidFill>
                <a:latin typeface="Calibri"/>
              </a:rPr>
              <a:t>a protester who the Nigerian government kill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6. The levels of dangerous chemicals in the water in Ogoniland ar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70c0"/>
                </a:solidFill>
                <a:latin typeface="Calibri"/>
              </a:rPr>
              <a:t>9 times    b) 90 times    c) 900 tim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more than the maximum WHO (World Health Organisation) limi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7. Life expectancy in the Niger Delta i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70c0"/>
                </a:solidFill>
                <a:latin typeface="Calibri"/>
              </a:rPr>
              <a:t>45    b) 52    c) 59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8. After the oil spills in 2008 and 2009 that destroyed the area, Shell offered to pay about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a) </a:t>
            </a:r>
            <a:r>
              <a:rPr b="1" lang="en-GB" sz="3000" spc="-1" strike="noStrike">
                <a:solidFill>
                  <a:srgbClr val="0070c0"/>
                </a:solidFill>
                <a:latin typeface="Calibri"/>
              </a:rPr>
              <a:t>$5 million    b) $50 million    c) $500 mill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Now read this to check your answers:</a:t>
            </a:r>
            <a:br>
              <a:rPr sz="4000"/>
            </a:br>
            <a:r>
              <a:rPr b="0" lang="en-GB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ewiki.newint.org/index.php/The_Spirit_of_Saro-Wiwa_fights_again_in_the_Niger_Delta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Content Placeholder 3" descr=""/>
          <p:cNvPicPr/>
          <p:nvPr/>
        </p:nvPicPr>
        <p:blipFill>
          <a:blip r:embed="rId2"/>
          <a:stretch/>
        </p:blipFill>
        <p:spPr>
          <a:xfrm>
            <a:off x="1174680" y="1600200"/>
            <a:ext cx="6794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Jigsaw reading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78920" y="1267920"/>
            <a:ext cx="8713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Divide into groups of 4 (A, B, C and D). Each read one of these articles about oil (C &amp; D are shorter articles), and find problems and solutions about oil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)  http://eewiki.newint.org/index.php/Ending_the_Oil_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) http://eewiki.newint.org/index.php/I_was_watched_by_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)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http://eewiki.newint.org/index.php/Universities_take_action_on_anti-fossil_fu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)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http://eewiki.newint.org/index.php/Football_must_stop_working_with_oil_compan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6372360" y="5445000"/>
            <a:ext cx="222084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15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In groups of A, B, C and D, discuss: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4000" y="1600200"/>
            <a:ext cx="8570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600" spc="-1" strike="noStrike">
                <a:solidFill>
                  <a:srgbClr val="000000"/>
                </a:solidFill>
                <a:latin typeface="Calibri"/>
              </a:rPr>
              <a:t>OIL: problems and solutions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454640" y="3716280"/>
            <a:ext cx="4440240" cy="2957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166680" y="3933720"/>
            <a:ext cx="342108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54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riting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In pairs, write a letter to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a) UEF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b) your local football team  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c) your local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ersuade them to stop investing in oil, and explain the reasons why this is important for the world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5292720" y="189000"/>
            <a:ext cx="3719520" cy="24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3T11:03:42Z</dcterms:created>
  <dc:creator>Linda Ruas</dc:creator>
  <dc:description/>
  <dc:language>en-US</dc:language>
  <cp:lastModifiedBy>Linda Ruas</cp:lastModifiedBy>
  <dcterms:modified xsi:type="dcterms:W3CDTF">2014-11-23T16:03:09Z</dcterms:modified>
  <cp:revision>10</cp:revision>
  <dc:subject/>
  <dc:title>Oil</dc:title>
</cp:coreProperties>
</file>